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71F-67CA-46F9-BDAF-4C2B1CA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E8C-2AB3-46B6-A927-B2774CD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AC2-C59D-4029-8F53-3F318F18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EFA-BFCC-4319-965A-090D507C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8F50-0F49-4724-8DAE-A9DC768F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417D-16A0-4D1D-BF9E-6243038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25B-C2D9-405B-870E-6403A83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0F3-1C8D-4EFE-9936-8F82AB63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698-7913-4E43-8389-BFFAAF3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B546-DFA4-4EDB-BF15-444F30D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105-D7E3-4AE9-B21F-4FF09B6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7B7-E77A-4349-BB4A-7ED355A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F8A-90EC-4FE1-8A7B-2272545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DD28-59FE-4C3B-9F09-11C50CB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483-CD87-4B46-9688-6409A1D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0436-B5C4-40AF-BE47-5BBA356C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52EF-2C9B-45EB-A368-F00AA0A0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D64-D74A-491D-9EF0-052BC87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A2-0F45-4C95-94BA-736D9701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C5E-5839-44EB-9AF8-96DFF917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DCC-EC40-47A3-A5EA-A25BA9E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B3E-803B-4E7B-B96E-3BD3524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3ED-56F4-4218-9C69-AD20414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995-54F6-4311-99E8-2D7CE03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2EC-9002-4B88-A3F3-155DB1CCF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114-FECE-4D70-90AF-E14BBBCBF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2:1 – 3: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23 -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3319-DDC0-4DC7-BED9-5D2CB6E71BF8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Beginning of Jesus’ Minist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p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Dis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rst Mi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CF5-04E8-4913-9911-712DFAAC122E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irst Miracle in Cana of Galile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2:1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casion:  A Wedding Fe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ed: The Supply of Wine Had Run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quest: Mary asked Jesus to do something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:  A Surprising Better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bject of this Miracle: Show His Power over Nature (sign of de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:  His disciples “believed” on H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63F-9897-45DC-AD61-EFFE227D61A6}" type="slidenum">
              <a:t>3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na of Galile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09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33720" y="2666880"/>
            <a:ext cx="838080" cy="5335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521-4173-46E4-9CA3-C039367D46FA}" type="slidenum">
              <a:t>4</a:t>
            </a:fld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esus Visits Capernaum for a few days – John 2:12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504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0080" y="2133720"/>
            <a:ext cx="68580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39243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DEE-1F97-417F-A636-2A5D1D8D3CE9}" type="slidenum">
              <a:t>5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pernaum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439-B0BF-4697-8AE8-1820C79E972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irst Passover in His Ministry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ohn 2:13-22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570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san = Our March 15 - April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the temple made into a house of merchand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verting the design and purpose of the te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strongly opposed what the Jews were d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authority would be proven in His resur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misconstrued His words to mean something He did not int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Jesus’ words and miracles convinced many –John 2:23-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ADA-B21D-4D6E-B755-14D65C2E2557}" type="slidenum">
              <a:t>7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Jerusalem Templ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53120" cy="461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212256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737400" y="380880"/>
            <a:ext cx="2197080" cy="31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06F-16DB-4F09-A74B-CF8D83EAFCE9}" type="slidenum">
              <a:t>8</a:t>
            </a:fld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icodemus Visits Jesu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3:1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w Birth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ing and entering the kingdom of God requir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 new start in learning the things of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The washing of regeneration and renewing of the Holy Spi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Looking up to Jesus for spiritual healing as the Israelites looked upon the brass serpent on the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8B6-3B4A-4232-B4C7-B7CA0380515E}" type="slidenum">
              <a:t>9</a:t>
            </a:fld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8:12:10Z</dcterms:created>
  <dc:creator> Tab Vines</dc:creator>
  <dc:description/>
  <dc:language>en-US</dc:language>
  <cp:lastModifiedBy>Frank D Vines</cp:lastModifiedBy>
  <dcterms:modified xsi:type="dcterms:W3CDTF">2006-07-26T23:25:57Z</dcterms:modified>
  <cp:revision>6</cp:revision>
  <dc:subject/>
  <dc:title>Sir, We Would See Jesus</dc:title>
</cp:coreProperties>
</file>